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FE62-20FD-4D23-B561-17AB7B01E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AC76-9AA4-41B6-B726-B8461EFC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0893-5B74-4DBB-B73F-4F1F01A4E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ACFC-3458-4F9B-8C63-7A265F7EC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AD07-4740-4279-9C18-BA1C7858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69F1-5A31-4509-8E7A-3C424392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86B5-4A8D-4BF7-85D2-836F452D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E390-57C6-404F-B8FE-B6492E4C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0401-DCA8-4A6E-A974-E561C40F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94FC-9992-4DBA-A358-6737F36A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3436-147E-4988-9532-26DABDA5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6D67-AE9A-46FD-A870-424075F9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CD6E-7C77-47B6-8BEC-291280705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xnet.rrc.mb.ca/davidb/laselva62_jpg_jpg.jpg&amp;imgrefurl=http://xnet.rrc.mb.ca/davidb/camoulflage.htm&amp;usg=__c0dqIphsQ4SxT6Sqrc0Wz4X7hcA=&amp;h=494&amp;w=739&amp;sz=56&amp;hl=en&amp;start=16&amp;um=1&amp;itbs=1&amp;tbnid=rHzodEXw5jHmyM:&amp;tbnh=94&amp;tbnw=141&amp;prev=/images%3Fq%3Danimal%2Bwarning%2Bcoloration%26um%3D1%26hl%3Den%26safe%3Dactive%26sa%3DG%26rls%3Dcom.microsoft:*%26tbs%3Disch:1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img1.photographersdirect.com/img/17165/wm/pd1597063.jpg&amp;imgrefurl=http://www.photographersdirect.com/buyers/stockphoto.asp%3Fimageid%3D1597063&amp;usg=__uKmp5x0Znl7E4hvkny0GA2R-uq0=&amp;h=500&amp;w=354&amp;sz=75&amp;hl=en&amp;start=14&amp;um=1&amp;itbs=1&amp;tbnid=5CpE7Pt0mK7CDM:&amp;tbnh=130&amp;tbnw=92&amp;prev=/images%3Fq%3Danimal%2Bwarning%2Bcoloration%26um%3D1%26hl%3Den%26safe%3Dactive%26sa%3DG%26rls%3Dcom.microsoft:*%26tbs%3Disch:1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com/imgres?imgurl=http://upload.wikimedia.org/wikipedia/commons/a/aa/Red_milk_snake.JPG&amp;imgrefurl=http://techforedblog.blogspot.com/2010/01/warning-coloration.html&amp;usg=__HJLrokbo5P9ReDX2LySV360a9rE=&amp;h=342&amp;w=440&amp;sz=177&amp;hl=en&amp;start=22&amp;um=1&amp;itbs=1&amp;tbnid=5veUFzu4UmkaMM:&amp;tbnh=99&amp;tbnw=127&amp;prev=/images%3Fq%3Danimal%2Bwarning%2Bcoloration%26start%3D18%26um%3D1%26hl%3Den%26safe%3Dactive%26sa%3DN%26rls%3Dcom.microsoft:*%26ndsp%3D18%26tbs%3Disch:1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images.google.com/imgres?imgurl=http://cache3.asset-cache.net/xc/87358838.jpg%3Fv%3D1%26c%3DIWSAsset%26k%3D2%26d%3D07598B91EACD482931E4F5923072782BFE4CAA55875F735ED90D76054B2D8A0BE30A760B0D811297&amp;imgrefurl=http://www.jupiterimages.com/Image/royaltyFree/87358838&amp;usg=__-sRBn9VDdZeTc5CpMwixxy4ojIo=&amp;h=337&amp;w=507&amp;sz=42&amp;hl=en&amp;start=32&amp;um=1&amp;itbs=1&amp;tbnid=rGIQIPOJtq_4dM:&amp;tbnh=87&amp;tbnw=131&amp;prev=/images%3Fq%3Danimal%2Bwarning%2Bcoloration%26start%3D18%26um%3D1%26hl%3Den%26safe%3Dactive%26sa%3DN%26rls%3Dcom.microsoft:*%26ndsp%3D18%26tbs%3Disch:1" TargetMode="External"/><Relationship Id="rId8" Type="http://schemas.openxmlformats.org/officeDocument/2006/relationships/image" Target="../media/image8.jpeg"/><Relationship Id="rId9" Type="http://schemas.openxmlformats.org/officeDocument/2006/relationships/hyperlink" Target="http://images.google.com/imgres?imgurl=http://www.animalweb.com/images-animalpages/amphibians-images/poison-arrow-frog.jpg&amp;imgrefurl=http://www.animalweb.com/an-amphibians.asp&amp;usg=__xLqTDwpWaVl1yVUUnSFbAcl6z6g=&amp;h=139&amp;w=180&amp;sz=16&amp;hl=en&amp;start=49&amp;um=1&amp;itbs=1&amp;tbnid=qoHyQca2jXQSAM:&amp;tbnh=78&amp;tbnw=101&amp;prev=/images%3Fq%3Danimal%2Bwarning%2Bcoloration%26start%3D36%26um%3D1%26hl%3Den%26safe%3Dactive%26sa%3DN%26rls%3Dcom.microsoft:*%26ndsp%3D18%26tbs%3Disch:1" TargetMode="External"/><Relationship Id="rId10" Type="http://schemas.openxmlformats.org/officeDocument/2006/relationships/image" Target="../media/image9.jpeg"/><Relationship Id="rId11" Type="http://schemas.openxmlformats.org/officeDocument/2006/relationships/hyperlink" Target="http://images.google.com/imgres?imgurl=http://fotosa.ru/stock_photo/Westend61_RF/p_1708845.jpg&amp;imgrefurl=http://fotosa.ru/ru/stock/search.asp%3FID%3D1708845%26anchor%3D9&amp;usg=__YpEjREGD4hzWZjdhYdUoqmgDTS8=&amp;h=580&amp;w=386&amp;sz=31&amp;hl=en&amp;start=38&amp;um=1&amp;itbs=1&amp;tbnid=DkU5KQXB8L_DAM:&amp;tbnh=134&amp;tbnw=89&amp;prev=/images%3Fq%3Danimal%2Bwarning%2Bcoloration%26start%3D36%26um%3D1%26hl%3Den%26safe%3Dactive%26sa%3DN%26rls%3Dcom.microsoft:*%26ndsp%3D18%26tbs%3Disch:1" TargetMode="External"/><Relationship Id="rId12" Type="http://schemas.openxmlformats.org/officeDocument/2006/relationships/image" Target="../media/image10.jpeg"/><Relationship Id="rId13" Type="http://schemas.openxmlformats.org/officeDocument/2006/relationships/image" Target="../media/image11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Hurry Up"/>
              </a:rPr>
              <a:t>Camoufla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urry Up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rry Up"/>
              </a:rPr>
              <a:t>concealment by means of disgu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see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camouflaged-iguana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een Light"/>
              </a:rPr>
              <a:t>Mimicr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en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en Light"/>
              </a:rPr>
              <a:t>resembling another organism or natural objects among which it l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en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en Light"/>
              </a:rPr>
              <a:t>secures it a selective advantage (as protection from predati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062680" y="2943360"/>
            <a:ext cx="32097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ning Col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ning coloration is the exact opposite of camoufl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bject being to warn an enemy o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te bad or are poisonous, an evil odor, a sting, a poison-fa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1752480"/>
            <a:ext cx="1343160" cy="895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96080" y="1523880"/>
            <a:ext cx="876600" cy="1238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10280" y="3200400"/>
            <a:ext cx="1209960" cy="942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238880" y="4648320"/>
            <a:ext cx="1247760" cy="828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867280" y="4267080"/>
            <a:ext cx="962280" cy="743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334120" y="2819520"/>
            <a:ext cx="847440" cy="1276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5029200" y="5181480"/>
            <a:ext cx="118116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18:53:00Z</dcterms:created>
  <dc:creator>Clear Creek ISD</dc:creator>
  <dc:description/>
  <dc:language>en-US</dc:language>
  <cp:lastModifiedBy>Clear Creek ISD</cp:lastModifiedBy>
  <dcterms:modified xsi:type="dcterms:W3CDTF">2010-02-23T19:11:19Z</dcterms:modified>
  <cp:revision>2</cp:revision>
  <dc:subject/>
  <dc:title>Camouflage</dc:title>
</cp:coreProperties>
</file>